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A1D-4AEE-4F8F-942A-8EE2ECA9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AF7-8802-4506-98CA-30D4B4EA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432B-93B0-4044-A3AC-FB3ABD12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D7C6-F24B-4B59-923E-5CAB1358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9244-DA35-45D3-A4DE-08019645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5C8-8B56-4F27-AD6E-03A49C2A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DEC0-A477-4177-925B-DE334848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6BB-D718-4CD0-B55C-424758A4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1F44-8A04-4979-B815-38349AA3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7E2D-B796-4D35-9E41-644A3D3D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CF71-971F-45EB-A946-699981B6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F64A-B2FC-4252-A06F-A72C0334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8B34-9AAE-4B36-AFEE-4DF2916F2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1628640"/>
            <a:ext cx="540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d60093"/>
                </a:solidFill>
                <a:latin typeface="Times New Roman"/>
              </a:rPr>
              <a:t>The Helping Hands of Israel</a:t>
            </a:r>
            <a:endParaRPr b="0" lang="en-US" sz="1800" spc="1" strike="noStrike">
              <a:ln w="0">
                <a:noFill/>
              </a:ln>
              <a:solidFill>
                <a:srgbClr val="d60093"/>
              </a:solidFill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00720" y="2781360"/>
            <a:ext cx="2023920" cy="59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latin typeface="Times New Roman"/>
              </a:rPr>
              <a:t>by Gila Segal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latin typeface="Times New Roman"/>
              </a:rPr>
              <a:t>December 2011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06:38:18Z</dcterms:created>
  <dc:creator>נוה חנה</dc:creator>
  <dc:description/>
  <dc:language>en-US</dc:language>
  <cp:lastModifiedBy>נוה חנה</cp:lastModifiedBy>
  <dcterms:modified xsi:type="dcterms:W3CDTF">2012-01-02T06:39:13Z</dcterms:modified>
  <cp:revision>1</cp:revision>
  <dc:subject/>
  <dc:title>שקופית 1</dc:title>
</cp:coreProperties>
</file>